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A0C-3AD5-45C1-99EC-B34FB401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3E3-155E-431C-B456-FB14E808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6B05-7D93-478A-B383-B22E3810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120-1E4B-456C-AA6A-130DE600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F20-17D7-47CB-861B-D862F661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F5D-FE72-424F-A68D-8C4DE7F7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846-ED36-4F85-BE3E-C8F12B55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201F-6E6B-4DB8-9B04-CC5869F5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60D-4901-4463-939C-89F9AEEF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B41-A9D7-4A96-BD90-A78DBFD5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87D-C5B6-4AC6-B977-111A69BD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047-275F-415E-9003-0D0A694C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D0FA-E024-49E4-8A5D-A5DD7D209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bc.co.uk/scotland/education/bitesize/standard/physics/waves/wave_definitions_rev3.s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bc.co.uk/scotland/education/bitesize/standard/physics/waves/wave_definitions_rev3.s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S Physical Sci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bc.co.uk/scotland/education/bitesize/standard/physics/waves/wave_definitions_rev1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 note on Her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For water waves and sound waves the unit hertz is usually good enough but radio and TV waves have such a high frequency that the kilohertz (kHz) or even the megahertz (MHz) are better unit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peed (also called velocit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ymbol  = 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 how far the wave travels in a certa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ve speed is measured in meters per second (m/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the electromagnetic waves travel at 300,000,000 meters per second (3 x 108 m/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und travels at about 340 meters per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33720" y="4229280"/>
            <a:ext cx="52578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ave relationship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ave speed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en distance is measured in meters (m) and time in seconds (s), the speed is in meters per second (m/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wave speed equation"/>
          <p:cNvPicPr/>
          <p:nvPr/>
        </p:nvPicPr>
        <p:blipFill>
          <a:blip r:embed="rId2"/>
          <a:stretch/>
        </p:blipFill>
        <p:spPr>
          <a:xfrm>
            <a:off x="685800" y="2895480"/>
            <a:ext cx="81532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86200" y="4419720"/>
            <a:ext cx="23623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peed of sou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4876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he speed of sound is different for different materi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 travels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astes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hrough solids and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lowes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hrough gases such as a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ask – “What does it matter”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27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3476520"/>
            <a:ext cx="4419720" cy="3381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s are carried by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itudinal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wa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particles of the medium vibrate in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ame directio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s the energy of the sound is carried.  (bottom diagr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4495680"/>
            <a:ext cx="1752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lab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quish in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4960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umans can hear sounds in the range 20 hertz to 20 000 hert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ferred to as th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ange of hearin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 everyone can hear over all of this range - the numbers are only approximate. In particular the high frequency limit reduces with 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38052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oudnes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a sound is a measure of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the wave. The greater the amplitude, the louder the s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itch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a sound is a measure of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the wave. The higher the frequency, the higher the pit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k:  Straw sounds lab &amp; test tube xylo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ound and 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udnes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a sound is a measure of 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the w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greater the amplitude, the louder the s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itch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a sound is a measure of 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the w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higher the frequency, the higher the pit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Unwanted background sounds are sometimes called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noise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hen the sound level of this noise rises to higher levels, we refer to this as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noise pollution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hat is a w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42720" indent="-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aves ar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ibration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moving from one place to an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aves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arry energ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from one place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cause waves carry energy, they can be used for communication (ex: radio and television waves) and to transmit sign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re ar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y type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waves (sound, light, etc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 levels are measured on a scale known as the decibel (dB) sc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higher the number the greater is the sound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oo much noise can damage hea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posure to 90 decibel sound levels for a long time can cause permanent hearing l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posure to a brief sound level of 140 decibels will cause pain and can cause permanent damage to hea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ources of sounds and their db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62120" y="1447920"/>
          <a:ext cx="7924680" cy="5027400"/>
        </p:xfrm>
        <a:graphic>
          <a:graphicData uri="http://schemas.openxmlformats.org/drawingml/2006/table">
            <a:tbl>
              <a:tblPr/>
              <a:tblGrid>
                <a:gridCol w="586728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urce of s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und level in decib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reshold of S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isp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ckground noise at h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rmal tal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ise pollution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neumatic drill - 5 metres a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 a club - 1 m from a loudspea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reshold of p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ltras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und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 vibrations beyond the range of human hea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quency of ultrasounds is greater than 20,000 hert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d by means of longitudinal w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medicine to break up kidney stones and gall stones. It is also used to create images of an unborn baby in a wom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hat is a w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some types of waves,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edium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at carries them has to be matter, either solid, liquid or g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ter waves obviously have to travel in wate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und waves need a solid, a liquid or a gas to travel 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waves in the electromagnetic spectrum (light) do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need any matter to travel in, they are able to travel in a vacu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ransverse wa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particles of the medium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ibrate at right angle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o the direction that the energy trav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s is where the name transverse comes from - it means '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cros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'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 of the electromagnetic waves are transverse waves, as are water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Illustration of transverse w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ngitudinal wa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 waves are longitudinal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energy travels along in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ame directio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s the particles vib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type of wave is known as a longitudinal wave, so named because th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nergy travels along the direction of vibr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f the parti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Illustration of longitudinal 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Frequency, wavelength, amplitude and wave spe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8534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ymbol is =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s the distance from the center line (or the still position) to the top of a crest or to the bottom of a troug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s measured in meters (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 greater the amplitude of a wave then the more energy it is carryin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038480" y="3830760"/>
            <a:ext cx="480060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ymbol is a Greek letter lambda = 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s the distance from any point on one wave to the same point on the next wave alo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Wavelength is also measured in meters (m) - it is a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length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after all.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76520" y="2971800"/>
            <a:ext cx="57909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ymbol is =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 the number of waves passing a point in a certain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 normally use a time of one second, so this gives frequency th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nit hertz (Hz),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since one hertz is equal to one wave per seco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057400" y="3200400"/>
            <a:ext cx="51814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9:20:54Z</dcterms:created>
  <dc:creator>Staff</dc:creator>
  <dc:description/>
  <dc:language>en-US</dc:language>
  <cp:lastModifiedBy>SGANSK</cp:lastModifiedBy>
  <dcterms:modified xsi:type="dcterms:W3CDTF">2008-09-03T15:23:39Z</dcterms:modified>
  <cp:revision>7</cp:revision>
  <dc:subject/>
  <dc:title>Slide 1</dc:title>
</cp:coreProperties>
</file>